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4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3B4E-C68E-4B43-ADE2-5012D31C5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2E23-B054-404B-8EE1-FA21749B6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2EDD-1219-42A6-8F20-86E5438A2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D948-DC2F-4103-80ED-E7C000FE0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03440" y="609480"/>
            <a:ext cx="7737120" cy="34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6FC0-0872-4DD1-981C-75D52357D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34D2-16B3-4CE0-BE66-17ECD16ED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F252-1E54-473D-8665-D14672DA9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7966-8E21-4603-AB6B-EF453FB42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3440" y="609480"/>
            <a:ext cx="7737120" cy="34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D4CF-C67F-4464-A084-221197172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9317-0552-47B9-82FA-547750CA1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40DA-63FF-4ACD-A52C-22EA3AE47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ED32-9C3B-4643-9934-A218BC0C7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978320" y="6534000"/>
            <a:ext cx="190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0334-65A1-466B-991F-44F195C643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1320" y="-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4480" y="587520"/>
            <a:ext cx="7750080" cy="4572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960" bIns="39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1200" y="1903320"/>
            <a:ext cx="7989840" cy="4954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9040" y="365040"/>
            <a:ext cx="87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Wohlstand und Bedeutung von Versicherung — Nichtl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872640" y="3817440"/>
            <a:ext cx="314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cherungsmarktdurchdringung, 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=Prämienvolumen/B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3400" y="6191280"/>
            <a:ext cx="12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NE pro Kopf in PPP-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43EE-F209-4B77-93C8-53D77FD40161}" type="slidenum">
              <a:t>1</a:t>
            </a:fld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9040" y="317520"/>
            <a:ext cx="872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 —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Graphische Darstellung der Leben Progno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8960" y="1149480"/>
            <a:ext cx="23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es Prämienwachstum (in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6120" y="4122720"/>
            <a:ext cx="21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ämienvolumen, Mio. Fo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58000" y="1417680"/>
            <a:ext cx="29732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gnosefehler in Leben – strukturelle Veränderungen (oder Sondereffekte, z.B. bedingt durch Kapital-marktentwicklungen) unterschä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40440" y="3252960"/>
            <a:ext cx="27874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ögliche Ausweg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+ Anpassen d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Prognose für 200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mit den tatsächlichen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Werten für 2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+ Mehr Information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verwenden (wen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verfügba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97000" y="1370160"/>
            <a:ext cx="4784760" cy="282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85680" y="4162320"/>
            <a:ext cx="4975560" cy="26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8C25-032C-499C-8FD0-3B239D50F479}" type="slidenum">
              <a:t>10</a:t>
            </a:fld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82640" y="1963800"/>
            <a:ext cx="7794720" cy="4684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9040" y="358920"/>
            <a:ext cx="87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Wohlstand und Bedeutung von Versicherung — L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874440" y="3874680"/>
            <a:ext cx="314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cherungsmarktdurchdringung, 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=Prämienvolumen/B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53400" y="6105600"/>
            <a:ext cx="12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NE pro Kopf in PPP-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78600" y="5386320"/>
            <a:ext cx="177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rendlinie 19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30880" y="3726000"/>
            <a:ext cx="162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cc"/>
                </a:solidFill>
                <a:latin typeface="Arial"/>
              </a:rPr>
              <a:t>Trendlini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9840" y="4633920"/>
            <a:ext cx="33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F24F-90C3-491B-B3AA-0F3FFB8E40B5}" type="slidenum">
              <a:t>2</a:t>
            </a:fld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4720" y="1314360"/>
            <a:ext cx="783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040" indent="-2840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garn 1991-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junktur- und Versicherungsmarktzahlen (BIP, BIP-Wachstum, Inflation, Beitragsvolumen, Wachstumsraten und Versicherungs-marktdurchdringung Leben und Nichtleben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gabe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Beitragsvolumen in Leben und Nichtleben soll auf der Basis vergangener Versicherungsmarkt- und volkswirtschaftlicher Daten (1991-1999) sowie volkswirtschaftlicher Prognosen für 2000 und 2001 unter Zugrundelegung der oben beschriebenen einfachen Methoden für die Kurzfristprognose vorhergesag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326880"/>
            <a:ext cx="872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studie  —  Kurzfristprogno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29E3-3E4B-418E-BB25-655DDE833BA4}" type="slidenum">
              <a:t>3</a:t>
            </a:fld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326880"/>
            <a:ext cx="872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</a:t>
            </a:r>
            <a:br>
              <a:rPr sz="2200"/>
            </a:b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— Kurzfristprognosen / Datenba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1305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rhandene Dat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lkswirtschaftliche und Versicherungsmarktdaten bis 1999, Prognosen für reales BIP-Wachstum und Inflation in 2000 and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1200" y="2189160"/>
            <a:ext cx="8271000" cy="35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076F-0D98-49F3-8A03-2E40F5388511}" type="slidenum">
              <a:t>4</a:t>
            </a:fld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19040" y="326880"/>
            <a:ext cx="872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 —  Kurzfristprognosen Nichtle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92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1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kte Verwendung von Prognosen für reales BIP-Wachstum (=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Inflationsrate (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800" y="163512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mien(2000) = Prämien(1999)*(1+g/100)*(1+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π/100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mi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2001)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6800" y="2489040"/>
            <a:ext cx="8467920" cy="336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81D3-B186-4FCD-AB9D-CAE8BA224793}" type="slidenum">
              <a:t>5</a:t>
            </a:fld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19040" y="317520"/>
            <a:ext cx="872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 —  Kurzfristprognosen Nichtle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800" y="92700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rekte Verwendung von Prognosen für reales BIP-Wachstum (=g) und Inflationsrate (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chätzung der Penetration als Durchschnitt der letzten Ja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800" y="189720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tration(2000) = Durchschnitt Penetration(1997-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(2000) = BIP(1999)*(1+g/100)*(1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/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mien(2000) = BIP(2000)*Penetration(2000); für 2001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6800" y="2990880"/>
            <a:ext cx="847260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340E-40CB-4FC9-911C-9CC137B47E70}" type="slidenum">
              <a:t>6</a:t>
            </a:fld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9040" y="326880"/>
            <a:ext cx="872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 —  Kurzfristprognosen Le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800" y="938160"/>
            <a:ext cx="87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616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gangspunk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ätzung Penetration mittels durchschnittlicher Zunahme der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letzten Jahre; dann Verwendung von Prognosen fü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reales BIP-Wachstum (=g) und Inflationsrate (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800" y="184788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tration(2000) = Penetration(1999)+Durchschnittsanstieg(1995-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(2000) = BIP(1999)*(1+g/100)*(1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/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mien(2000) = BIP(2000)*Penetration(200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für 2001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6800" y="2824200"/>
            <a:ext cx="8452080" cy="36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5F5A-FAAB-4AD8-A3F6-D7B20750396E}" type="slidenum">
              <a:t>7</a:t>
            </a:fld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4640" y="938160"/>
            <a:ext cx="84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chtleben-Prognosen recht vernünftig (insb. für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nose-Fehler für Beitragsvolumen Leben hö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326880"/>
            <a:ext cx="872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 —  Tatsächliche Werte 2000 /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800" y="178128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104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achte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leiner Prognosefehler für geschätztes nominales BIP (Unterschi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wischen CPI Inflationsrate und Wachstumsrate BIP-Def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6800" y="2633760"/>
            <a:ext cx="8472600" cy="34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92DA-783D-400C-B04D-DFE7823E555E}" type="slidenum">
              <a:t>8</a:t>
            </a:fld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9640" y="1400040"/>
            <a:ext cx="24177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nosefehler in Nichtleben für 2000 relativ gering, für 2001 deutl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317520"/>
            <a:ext cx="872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Fallbeispiel  —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Graphische Darstellung der Nichtleben Progno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4560" y="1160640"/>
            <a:ext cx="23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es Prämienwachstum (in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27600" y="4022640"/>
            <a:ext cx="21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ämienvolumen, Mio. Fo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9560" y="4130640"/>
            <a:ext cx="4570560" cy="272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47800" y="1328760"/>
            <a:ext cx="4589640" cy="276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6760" y="2693880"/>
            <a:ext cx="27874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ffekte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Ratenzykl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(in 2001 beginnen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Hartmarktphase 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nicht berücksichti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7412-A4A5-477E-9E80-C72A05382EDE}" type="slidenum">
              <a:t>9</a:t>
            </a:fld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8T13:10:07Z</dcterms:created>
  <dc:creator>nn</dc:creator>
  <dc:description/>
  <dc:language>en-US</dc:language>
  <cp:lastModifiedBy>n012540</cp:lastModifiedBy>
  <cp:lastPrinted>2001-05-11T08:16:34Z</cp:lastPrinted>
  <dcterms:modified xsi:type="dcterms:W3CDTF">2004-01-20T16:25:24Z</dcterms:modified>
  <cp:revision>1321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9838747</vt:r8>
  </property>
  <property fmtid="{D5CDD505-2E9C-101B-9397-08002B2CF9AE}" pid="3" name="_AuthorEmail">
    <vt:lpwstr>florian.englmaier@lrz.uni-muenchen.de</vt:lpwstr>
  </property>
  <property fmtid="{D5CDD505-2E9C-101B-9397-08002B2CF9AE}" pid="4" name="_AuthorEmailDisplayName">
    <vt:lpwstr>Florian Englmaier</vt:lpwstr>
  </property>
  <property fmtid="{D5CDD505-2E9C-101B-9397-08002B2CF9AE}" pid="5" name="_EmailSubject">
    <vt:lpwstr>Homepage</vt:lpwstr>
  </property>
</Properties>
</file>