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4054-D2EB-425D-A3A5-EE065F55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7796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F331-31FD-4174-A396-DF88444E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0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85DC-E419-4A9D-985D-464A1A1C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168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756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168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756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9549-C0A5-4839-9960-ED1033E2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6360" y="174600"/>
            <a:ext cx="8207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DEAC-EC1C-424D-979A-E1DE9E74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80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5800" y="37796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80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168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7560" y="12488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580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168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7560" y="3779640"/>
            <a:ext cx="26337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DB37-5226-4FF2-846E-F0A0F52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3FA9-7076-47A7-B03D-6FF2804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4AF9-8F1D-4A11-8386-85A32DB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360" y="174600"/>
            <a:ext cx="8207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CAB6-CF9F-4A29-ADAE-982315D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9F97-4991-4102-B9DF-3A332A9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000" y="37796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E393-DD61-42BC-9173-09A77D49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000" y="1248840"/>
            <a:ext cx="39920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779640"/>
            <a:ext cx="818064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26A1-76D6-4D58-B193-233BE89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57160" y="6630840"/>
            <a:ext cx="1767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6840" y="1157400"/>
            <a:ext cx="84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299080" y="6557760"/>
            <a:ext cx="36036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69696"/>
                </a:solidFill>
                <a:latin typeface="GEsans55"/>
              </a:defRPr>
            </a:lvl1pPr>
          </a:lstStyle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969696"/>
                </a:solidFill>
                <a:latin typeface="GEsans55"/>
              </a:rPr>
              <a:t>- </a:t>
            </a:r>
            <a:fld id="{A72ED43A-0056-4F72-8056-D4D4D4E39C7B}" type="slidenum">
              <a:rPr b="0" lang="de-DE" sz="800" spc="-1" strike="noStrike">
                <a:solidFill>
                  <a:srgbClr val="969696"/>
                </a:solidFill>
                <a:latin typeface="GEsans55"/>
              </a:rPr>
              <a:t>&lt;number&gt;</a:t>
            </a:fld>
            <a:r>
              <a:rPr b="0" lang="de-DE" sz="800" spc="-1" strike="noStrike">
                <a:solidFill>
                  <a:srgbClr val="969696"/>
                </a:solidFill>
                <a:latin typeface="GEsans55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827840" y="6549840"/>
            <a:ext cx="63504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800" spc="-1" strike="noStrike">
                <a:solidFill>
                  <a:srgbClr val="969696"/>
                </a:solidFill>
                <a:latin typeface="GEsans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5431E4-2FBD-481E-88E8-F4B556D2630A}" type="datetime">
              <a:rPr b="0" lang="de-DE" sz="800" spc="-1" strike="noStrike">
                <a:solidFill>
                  <a:srgbClr val="969696"/>
                </a:solidFill>
                <a:latin typeface="GEsans55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7440" y="6281640"/>
            <a:ext cx="24141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69696"/>
                </a:solidFill>
                <a:latin typeface="GELogoFont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GEsansCon57"/>
              </a:rPr>
              <a:t>	</a:t>
            </a:r>
            <a:r>
              <a:rPr b="1" i="1" lang="de-DE" sz="1400" spc="-1" strike="noStrike">
                <a:solidFill>
                  <a:srgbClr val="969696"/>
                </a:solidFill>
                <a:latin typeface="GEsansCon57"/>
              </a:rPr>
              <a:t>GE Frankon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4440" y="6764400"/>
            <a:ext cx="1184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20" y="2189160"/>
            <a:ext cx="47545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95840" y="1674720"/>
            <a:ext cx="412884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26880" indent="-326880">
              <a:lnSpc>
                <a:spcPct val="70000"/>
              </a:lnSpc>
              <a:tabLst>
                <a:tab algn="l" pos="0"/>
                <a:tab algn="l" pos="63972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i="1" lang="de-DE" sz="4500" spc="-1" strike="noStrike">
                <a:solidFill>
                  <a:srgbClr val="969696"/>
                </a:solidFill>
                <a:latin typeface="GEsansCon57"/>
              </a:rPr>
              <a:t>GE Frankona 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257040"/>
            <a:ext cx="242568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de-DE" sz="9000" spc="-1" strike="noStrike">
                <a:solidFill>
                  <a:srgbClr val="969696"/>
                </a:solidFill>
                <a:latin typeface="GELogoFont"/>
              </a:rPr>
              <a:t>g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1200" y="31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sset Liability Management und Ermittlung des Rückversicherungsbedarfs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8148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. Ekkehard Kess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kkehard.Kessner@erc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1. Janua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EsansCon57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chäden in verschiedenen Sparten weisen spezifische Charakteristika au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wicklungsverhalten: I.d.R. rasche Abwicklung in Sparten wie Wohngebäude, Hausrat, Feuer, Sturm etc. Langsame Abwicklung in Haftplicht (AH, KH, Rentenfäl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inzelschäden / Kumulschäden (Sturm, Fl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zschäden / Großschäden (W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6DD6-0852-43C6-B545-CB0B0B86C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bwicklungsverhalten von Schäden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tail-Geschä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sch abwicklenden Sparten (v.a. Sach-Geschäft) kann in der Regel von bekannten (gut abschätzbaren) Schadenhöhen ausgegangen 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tail-Geschä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B. Haftpflicht (Allgemein; Kraftfahrt). Häufig ist die Höhe eines Schadens nach mehreren Jahren noch nicht endgültig bekan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er IB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äden werden oft erst spät bekannt (z.B. Asb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arielle Schätzungen (z.B. Chain Ladder) möglich, aber oft ungenau (Zufalls-, Änderungs-, Irrtumsris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Super-Imposed-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nderung Rechtspre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72AF-E90A-4233-BEA5-33C61EED4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spiel: Wohngebäude-Vers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iedene Gefah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tungswa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bruch/Diebst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ge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rm, Hagel, Erdbeben, Überschwemmung, Fr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gefahren bergen hohes Kumul-Risi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B172-D742-43CE-894C-3DD752ABE6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chaden-/Unfall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spiel: Kraftfahrt-Haftpf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der Illimité-Dec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Kalkulation der potentiellen Schadenhöhe bei unbegrenzter Deckung ist extrem schwieri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ktion auf 50 Mio. EUR, aber Bestandsauslauf über 4-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te bekannter höchster Schaden (Selby: Heute mind. 50 Mio. EUR) kann bald überschritten werden. Prinzipiell sind beliebige höhere Schäden denk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 die Häufigkeit von (seltenen) Großschäden sind Prognosen ebenfalls schwer durchzufü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nschäden: Medizinischer Fortschr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2141-C21D-404D-ADE0-8C9D1C531F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spiel: Allgemeine Haftpf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hr heterogene S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haftpf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rbliche Haftpf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kthaftung: z.B Arzneimittelhaftung (Lipob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spiel: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ignisse, die noch vor kurzem unvorstellbar erschienen, sind eingetreten, z.B. W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tenclash: In allen Sparten extrem hohe Schä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r Zukunft sind auch noch höhere Schäden mög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400C-CF4A-4A40-A5EB-9DC3AA4E83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isiko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chnungs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rifierungs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pitalanlageentschei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vers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sische Rückversicherung (proportional, nicht-propor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r Risikotransfer (z.B. Cat-Bonds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A721-02A9-455F-A486-C63A051F3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sset Liability Management (ALM)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elfunktion des VU: Gewinn -&gt; Max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ielkonflikt : Gewinn &lt;-&gt; Wachstum &lt;-&gt; Sicher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elgrößen des VU können häufig durch Bilanzkennzahlen als Indikatoren abgebildet werde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adenquote und CR (brutto/net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cherungstechnisches Ergeb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pitalanlageergeb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M als Mittel zur Bilanzsteuer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CEC1-2EF5-4289-BF41-84085BF21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Beispiel: Gewinn- und Verlustrechn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04760" y="1249200"/>
          <a:ext cx="7002720" cy="48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49200"/>
                    <a:ext cx="700272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0D91-E593-4DA0-B12A-22D35AACBB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durch Rück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-Parameter können zur Steuerung von Bilanzzahlen herangezog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bstbehalte in der proportionalen 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. Rückführung einer Quoten-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wandlung eines Summenexcedenten in eine 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der nicht-proportionalen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. Erhöhung einer XL Prior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ührung eines Stop-Loss Vert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Erwartungswert kostet RV Geld, aber uner-wünschte Ergebnisse können unwahrscheinlicher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269D-3EA3-4CB0-8E05-CAED501AA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26880"/>
            <a:ext cx="8451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lassische Rückversicherungsverträ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371600"/>
            <a:ext cx="2819160" cy="6094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35680" y="1432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286000"/>
            <a:ext cx="2514600" cy="137160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ster Anteil je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kos wird an R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berg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038480"/>
            <a:ext cx="2514600" cy="137160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9810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9718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7240" y="23065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oten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07664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enexz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5240" y="4505400"/>
            <a:ext cx="224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räge über dem 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EV an R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berge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371600"/>
            <a:ext cx="2971800" cy="6094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0000" y="14320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ht-propor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2286000"/>
            <a:ext cx="2514600" cy="13716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 zahlt Betrag oberha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s SB für einzel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334120"/>
            <a:ext cx="2514600" cy="13716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 zahlt Jahrersscha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erhalb eines 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3825720"/>
            <a:ext cx="2514600" cy="13716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 zahlt hohe Schä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r Katastrop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9810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9718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956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199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3800" y="24224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ko X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3800" y="53942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3800" y="3809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 X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F506-1981-4DD0-9B20-A51ACF59BA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Liability Management (ALM) in der Lebens- (LV) sowie der Schaden- und Unfallversicherung (S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ückversicherung als Instrument des 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Financial Analysis als Methode des 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blick: Solvenc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CAD5-4AC1-4E3A-95EE-FBCF51B2B6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durch Rück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echnungs- und Vertragsgestaltung (Bilanzsteuer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B. Übernahme von Internen SRK statt Provisions-zahl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V übernimmt Anteil der Internen SRK des E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änderung der Netto-Schadenquo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V zahlt Provision an EV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änderung der Netto-Kosten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bhängig von der Wahl der Vertragsgestaltung gleiches (Netto)-Ergebnis des RV-Vertr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ABF6-D95C-4A45-B3A1-C233169258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Dynamic Financial Analysis als Instrument des ALM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e-Carlo Simulationen erlauben die statistische Analyse unsicherer Ergebnis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von Bilanzkenn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ersuchung kritischer W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Risk (z.B. Ein Verlust von mehr als x wird nur in 1 von 100 Jahren überschri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nwahrschein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sche mehrperiodige Betracht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CC00-CC25-486D-BC32-72047AD2FE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DFA als Methode des ALM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ätzung von Verteilungsparametern aus historischen Da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nfrequenz (z.B. Poisson-Vertei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ßschadenhöhe (z.B. Pareto-Vertei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Marktparametern im Falle kleiner (nicht-repräsentativer) Kundenportfeui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: Schadenanzahl ist poissonverteilt 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800600"/>
                <a:ext cx="56134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rk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ternehme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A8F2-9361-4875-9A48-9A0656F07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DFA als Methode des ALM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detaillierte Analyse eines Kundenportfolios gibt Aufschluß über die Wirkung der momentanen RV-Strukt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änderungen können nicht nur im Rahmen einer As-If Analyse betrach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kte von RV-Parameteränderungen auf Bilanz und GuV können untersuch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hrscheinlichkeitsverteilu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 untersuchten Größen können analysi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5BF3-F754-487E-A302-6ED7E77587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omputerunterstützte DFA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fache Konstruktion von RV-Programmen mit Spezialsoftware (z.B. ReMet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-Komponenten können einfach miteinander verknüpf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wirkungen von Parameteränderungen z.B. im RV-Programm können sehr schnell untersuch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223D-C49D-47AF-B16A-A785C95635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omputerunterstützte DFA - Beispiel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5800" y="1249200"/>
            <a:ext cx="8180640" cy="48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097-B665-426E-A032-AF823AD60F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omputerunterstützte DFA - Beispiel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ßschä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äufigkeit Poisson-verteilt mit Erwartungswert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 Pareto-verteilt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:    5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: 25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n-RV: 80% Selbstbe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-Progra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ay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.000 xs 5.000.000, keine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ay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0.000 xs 10.000.000, keine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000 Simul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953-1D06-42FA-BBFB-8B8DF4AD7C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oisson-Verteilung 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3720" y="1249200"/>
            <a:ext cx="8163000" cy="48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6F2A-4D87-4137-889C-91A0D426ED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areto-Verteil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162920" cy="42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14400" y="1295280"/>
                <a:ext cx="48387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148D-9B61-467F-954F-2A66350ED2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Wirkung des RV-Programms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5800" y="1249200"/>
            <a:ext cx="4013280" cy="4845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81360" y="1249200"/>
            <a:ext cx="4015080" cy="48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D56E-76C6-48AE-80EF-82924772B3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3400" spc="-1" strike="noStrike">
                <a:solidFill>
                  <a:srgbClr val="000000"/>
                </a:solidFill>
                <a:latin typeface="Arial"/>
              </a:rPr>
              <a:t>Asset Liability Management (ALM)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sset Liability Management ist der andauernde Prozeß, Strategien bezüglich Anlageformen und Verbindlichkeiten mit Hinblick auf finanzielle Ziele (unter gewissen Nebenbedingungen) zu formulieren, zu überwachen und zu verände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8333-9A49-4F9A-B1DB-5A15B0244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Wirkung der Simulationslänge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=1.000 (Links) - n=100.000 (Rechts)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5800" y="1249200"/>
            <a:ext cx="4013280" cy="4845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81360" y="1249200"/>
            <a:ext cx="4015080" cy="48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7BEC-E90D-4C2B-8947-A94DE44462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Änderung des RV-Programm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0% Quote (Links) - 50% Quote (Rechts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81360" y="1249200"/>
            <a:ext cx="4015080" cy="4845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15800" y="1249200"/>
            <a:ext cx="4013280" cy="48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66AE-3029-432E-817E-6CCA57E77D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Änderung des RV-Programms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hne WA (Links) - Je 3 WA (Rechts)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81360" y="1249200"/>
            <a:ext cx="4015080" cy="4845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5800" y="1249200"/>
            <a:ext cx="4013280" cy="484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0F6D-3AD1-41CE-A4EC-797E9F89F3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en haben Risk-Management Systeme schon heute implement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Rahmen einer europäischen Harmonisierung der Versicherungsaufsicht wird die Analyse von Risiken in Versicherungsunternehmen eine größere Rolle spielen. (“Basel II” für VU -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ncy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KonTraG verlangt schon 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 von Verlustpotentialen mit Bestandsgefährdungs-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ikofrüherkennung (Risikoidentifikation, -analyse, -be-wer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Bedeutung von DFA als ALM-Methode wird zuneh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E076-2F7D-4CE0-9472-7DA505232C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1120" y="1980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1880" y="1142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1000" y="3733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5880" y="1447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7280" y="33523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5600" y="4952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8320" y="464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4880" y="1904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F5BB-794F-4B8D-8A66-BA92FCBC2D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Literatur (Auswahl)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471680"/>
            <a:ext cx="79246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aufmann, R., Gadmer, A., Klett, R. (2001): “Introduction to Dynamic Financial Analys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ebwein, P. (2000): “Strukturierung von Rückversicherungsentscheidungen: Ein entscheidungstheoretisches Modell der Risikopolitik von Versicherungsunternehmen”, VVW, Karlsru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ckel, A. (1995): “Simultane Optimierung von Versicherungsbestand und Kapitalanlage - Kapitalmarkttheoretische Überlegungen”, Zeitschrift für die gesamte Versicherungswissenschaft, S. 407-42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meiser, H. (2001): “Risikomanagement von Versicherungsunternehmen nach KonTraG”, Zeitschrift für die gesamte Versicherungswissenschaft, S. 139-15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wie die dort angegebene Literat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04AB-BA1D-4B53-8E91-3FE8FA676A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– Ergebnis des VU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mienei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ückstel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adenzah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wicklungsergeb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schäftsergeb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iel: Gewinnmaximierung (ENP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B: Solvabilität, Bilanzkontinu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1BBE-06A3-4D2A-9984-98891B653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3400" spc="-1" strike="noStrike">
                <a:solidFill>
                  <a:srgbClr val="000000"/>
                </a:solidFill>
                <a:latin typeface="Arial"/>
              </a:rPr>
              <a:t>ALM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vereinfachende theoretische Ansatz eines risikoneutralen VU ist in der Praxis nicht gerechtfertig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s Ru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tümer und Manager des VU sind risikoa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lanzkontinuitä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lagen und Risiken müsen so gehandhabt werden, daß NB eingehalt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079E-A6EF-4CF7-A614-96FE6D11A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sset Management in der S/U- und Lebens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r Lebensversicherung nimmt das Kapitalanlageergebnis eine wesentlich wichtigere Rolle als in der Schaden- und Unfallversicherung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e Kapitalanlagevorschriften für LVU in Deutschland (§ 54a V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lagen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eutung von Res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257D-9714-4DEB-A37D-E474D9D3E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Lebens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wesentlichen durch Sterbetafeln prognostizierbarer Schadenverl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noquoten sind relativ vola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fristig festgelegte Tarife über die Vertragslaufz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hes Kapitalanlagerisi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rantierter Rechnungszins – schwankendes Zinsni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D1AE-0D7E-48D6-8ADF-0B3323B25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rschiedene Sparte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GV, VHV, Leitungswasser, Einbruchdieb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rm (Wohngebäude, Hausrat, Gewerbe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fahrt-Ka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ftpflicht (Allgemein, Kraftfah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uer (Industrie, Betriebsunterbrechu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, TT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734B-4E10-4D36-9E21-12CBF6F60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174600"/>
            <a:ext cx="820764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ALM in der S/U-Versicherung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5800" y="1248840"/>
            <a:ext cx="818064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adenfrequenz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ine stabilen Prognosen wie in Leben z.B. über Sterbetafel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äufigkeit von “Großschäden” sehr schwer zu prognostiz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nquote einer Sparte kann stark schwank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adenhöh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LV (“Summenversicherung”) I.d.R. “Total-Schaden” in Höhe der V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S/U (“Schadenversicherung”): Höhe des Schadens i.d.R. nur Bruchteil der V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8C8C-B8BE-4E53-A66E-F46137595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3:47:16Z</dcterms:created>
  <dc:creator>Stefanie Wille</dc:creator>
  <dc:description/>
  <dc:language>en-US</dc:language>
  <cp:lastModifiedBy>Florian Englmaier</cp:lastModifiedBy>
  <cp:lastPrinted>2002-11-20T10:00:15Z</cp:lastPrinted>
  <dcterms:modified xsi:type="dcterms:W3CDTF">2004-01-22T14:07:24Z</dcterms:modified>
  <cp:revision>186</cp:revision>
  <dc:subject/>
  <dc:title>Leben/ Kranken/ Unfal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41979491</vt:r8>
  </property>
  <property fmtid="{D5CDD505-2E9C-101B-9397-08002B2CF9AE}" pid="3" name="_AuthorEmail">
    <vt:lpwstr>florian.englmaier@lrz.uni-muenchen.de</vt:lpwstr>
  </property>
  <property fmtid="{D5CDD505-2E9C-101B-9397-08002B2CF9AE}" pid="4" name="_AuthorEmailDisplayName">
    <vt:lpwstr>Florian Englmaier</vt:lpwstr>
  </property>
  <property fmtid="{D5CDD505-2E9C-101B-9397-08002B2CF9AE}" pid="5" name="_EmailSubject">
    <vt:lpwstr/>
  </property>
</Properties>
</file>